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7.wmf" ContentType="image/x-wmf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8FF7-0390-41C9-BEC9-1CD03EA9E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4CC0-726F-4580-9532-DE18D4994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00D5-54FF-4479-AD9C-0E2B8B7BA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6FAE-CE83-416F-B194-BE7AC7D04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E9D53-9CF6-42D2-A560-58ADABCD7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D7124-809C-4AC5-B729-F0B350142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E89B3-275D-4CB0-BE00-63085DEAC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47E27-B319-484C-855F-F8DBF8E8C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16EF5-7FAA-4A46-BF50-3E049D763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CDB03-0EE5-4555-B534-AAE0037ED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D020B-7E24-4B93-8729-D807D02D8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9B15-4079-4BB1-A55F-DCF33BA6F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3F9CB-51CE-4DFB-AD98-C9AD4406D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82497-8DCE-422B-911D-9EFF6E651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2C5E5-13C5-43AE-80D4-646BFA0BA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3FDBC-D7EA-49A7-9F2F-A27D0FFCD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1C066-04E2-46E1-9EDA-CBD6597DB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C1637C-5887-49D3-B90B-0318AFF15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9A6E13-C314-4E45-AD3E-B1906CC30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DAB8D5-7183-437F-92A4-06F6B8F01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59546E-F7AA-4D19-A9A5-FD235BA3E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C3E002-29D0-4985-AE70-47168FD3E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EEBF-035A-48EF-9271-12BDC6DF9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AAD19F-459E-4904-9823-5774DFC6A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B1F111-21B9-4454-BE47-F99F1C852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64726E-0552-490F-905D-80F63E02F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D8D62E-C81C-463E-AB28-7535EE997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C00F07-41BB-47CB-8043-0E20041F4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F9026F-8AE8-451B-9A0D-E2F0D658D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6D7851-5B76-4E79-B71B-3B593EDEC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4308C3-1D41-4AE5-BBFA-072AD6356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2D6140-45C3-4CBD-80A3-8582BA853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73B2DD-765A-4095-B8D2-653161006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6C8D-7FDA-4800-8F5E-6E6E72627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F3099E-9711-4B2C-B6BF-D350E7259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1840E8-FEBD-41CE-B1E5-42030F80E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0CD755-5CE2-4CB3-908B-44FDD36A4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08B662-809D-430A-A1DA-C82A21EFB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0D0BBD-D047-49F2-880A-FEAA24874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1211C0-11E4-4EAC-B8C2-67C367F7D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324E72-5E2B-44EA-9672-32E8D075B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700413-7365-4499-A0C7-4853B323C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B9D0AE-7A52-4442-9B5B-ED34D4E29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856617-5B95-41F5-B0CA-B73CA737B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0AE3-8556-4DB0-8BE0-6B69DA7E0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77DBFF-0E11-4F35-8E8D-2970ADB6A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6FEA1B-CA9D-4195-9369-A4B71A6B2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9B67E1-5282-421A-B9D5-F8A188A51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3CC217-2006-4121-92C5-5D6608B5D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87384B-3C64-42ED-8D5C-BB159FE6B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8CB8DC-5DD5-448D-80B9-F04D2A272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1D80FD-14B6-40A8-AB05-70BB522D2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740A6B-B25F-43FF-A355-159ECAF6E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2E4816-B436-4C08-A1CB-88D100C77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4CD2DF-06BB-4677-8ADC-CB17BDBF6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6EA2-E158-467C-AC6D-D4D3A712D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9629B7-E744-42BF-AE90-CACFE081F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B739C0-5CB7-4188-953F-1A132C7AE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A4BDD2-54C0-472C-B626-781A5E8CF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6E5B67-1398-4943-9344-290523D11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9B545E-15AE-4C5E-8CED-467053F68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71E770-5198-4458-BA94-020F7B99D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1CA98A-CAD3-4DDC-B97E-A812C6382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685014-B396-41A6-B57A-E098C3B60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DC6215-290E-4C53-894B-EAD881F3D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0C7BFE-8220-444A-B82E-F8E77EAED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0704-8D5F-492B-8E56-537412002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880A05-991C-4AFF-A447-F92A8F035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B936C7-3693-45A1-864D-7B43CB3CF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256955-D9CE-4388-A50F-DB3111104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0EE1-001B-488C-80CE-C7810C77B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E19C-BDB7-46C8-98A6-F2034DDA8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40993-E956-488F-8ADF-B84EADD9663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3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4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83C2C-E30C-4841-B6D7-47DB8111B46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189AF-67BD-442E-B987-1FD5BE11709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44867-07E3-4376-BD89-A9CEEDE0602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A63B3-0756-4C99-AC43-6053890C953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Freeform 10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Freeform 15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0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2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3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E7B13-D4EE-44D1-8791-43BC0D37568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5181480" y="5562360"/>
            <a:ext cx="2819520" cy="6858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Cooper Black"/>
              </a:rPr>
              <a:t>Challenge 6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WordArt 4"/>
          <p:cNvSpPr txBox="1"/>
          <p:nvPr/>
        </p:nvSpPr>
        <p:spPr>
          <a:xfrm>
            <a:off x="228600" y="838080"/>
            <a:ext cx="8686800" cy="221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70c0"/>
                </a:solidFill>
                <a:latin typeface="Cooper Black"/>
              </a:rPr>
              <a:t>Physical Science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0070c0"/>
              </a:solidFill>
              <a:latin typeface="Cooper Black"/>
              <a:ea typeface="Cooper Black"/>
            </a:endParaRPr>
          </a:p>
        </p:txBody>
      </p:sp>
      <p:sp>
        <p:nvSpPr>
          <p:cNvPr id="278" name="Rectangle 15"/>
          <p:cNvSpPr/>
          <p:nvPr/>
        </p:nvSpPr>
        <p:spPr>
          <a:xfrm>
            <a:off x="1219320" y="6477120"/>
            <a:ext cx="6400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L. LaRosa  http://www.middleschoolscience.com  for 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16" descr="scistartlogo2"/>
          <p:cNvPicPr/>
          <p:nvPr/>
        </p:nvPicPr>
        <p:blipFill>
          <a:blip r:embed="rId1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  <p:sp>
        <p:nvSpPr>
          <p:cNvPr id="280" name="WordArt 17"/>
          <p:cNvSpPr txBox="1"/>
          <p:nvPr/>
        </p:nvSpPr>
        <p:spPr>
          <a:xfrm>
            <a:off x="4114800" y="3200400"/>
            <a:ext cx="449568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2892ac"/>
                </a:solidFill>
                <a:latin typeface="Cooper Black"/>
              </a:rPr>
              <a:t>Density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2892ac"/>
              </a:solidFill>
              <a:latin typeface="Cooper Black"/>
              <a:ea typeface="Cooper Black"/>
            </a:endParaRPr>
          </a:p>
        </p:txBody>
      </p:sp>
      <p:pic>
        <p:nvPicPr>
          <p:cNvPr id="281" name="Picture 8" descr="C:\Users\Liz\AppData\Local\Microsoft\Windows\Temporary Internet Files\Content.IE5\CPHVRLKO\MCj02296450000[1].wmf"/>
          <p:cNvPicPr/>
          <p:nvPr/>
        </p:nvPicPr>
        <p:blipFill>
          <a:blip r:embed="rId2"/>
          <a:stretch/>
        </p:blipFill>
        <p:spPr>
          <a:xfrm>
            <a:off x="685800" y="3276720"/>
            <a:ext cx="2590920" cy="26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Box 1"/>
          <p:cNvSpPr/>
          <p:nvPr/>
        </p:nvSpPr>
        <p:spPr>
          <a:xfrm>
            <a:off x="609480" y="304920"/>
            <a:ext cx="7772400" cy="170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Calculate the mass for the following objects using the formul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0a0"/>
                </a:solidFill>
                <a:latin typeface="augie"/>
              </a:rPr>
              <a:t>mass = Density x volu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Heart 2"/>
          <p:cNvSpPr/>
          <p:nvPr/>
        </p:nvSpPr>
        <p:spPr>
          <a:xfrm>
            <a:off x="990720" y="2438280"/>
            <a:ext cx="1523880" cy="1524240"/>
          </a:xfrm>
          <a:prstGeom prst="pie">
            <a:avLst/>
          </a:prstGeom>
          <a:solidFill>
            <a:srgbClr val="da1f28"/>
          </a:solidFill>
          <a:ln w="55080">
            <a:solidFill>
              <a:srgbClr val="a014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Cloud 3"/>
          <p:cNvSpPr/>
          <p:nvPr/>
        </p:nvSpPr>
        <p:spPr>
          <a:xfrm rot="403800">
            <a:off x="560520" y="4246560"/>
            <a:ext cx="2361960" cy="1905120"/>
          </a:xfrm>
          <a:prstGeom prst="pie">
            <a:avLst/>
          </a:prstGeom>
          <a:solidFill>
            <a:srgbClr val="ffffff"/>
          </a:solidFill>
          <a:ln w="5508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Box 5"/>
          <p:cNvSpPr/>
          <p:nvPr/>
        </p:nvSpPr>
        <p:spPr>
          <a:xfrm>
            <a:off x="3200400" y="2514600"/>
            <a:ext cx="571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This heart has a density of 5 g/c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entury Schoolbook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 and has a volume of 100 c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entury Schoolbook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What is its mas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6"/>
          <p:cNvSpPr/>
          <p:nvPr/>
        </p:nvSpPr>
        <p:spPr>
          <a:xfrm>
            <a:off x="3200400" y="4343400"/>
            <a:ext cx="571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This cloud has a volume of 500 c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entury Schoolbook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 and a density of 2 g/c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entury Schoolbook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What is its mas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7"/>
          <p:cNvSpPr/>
          <p:nvPr/>
        </p:nvSpPr>
        <p:spPr>
          <a:xfrm>
            <a:off x="5029200" y="624852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Arial"/>
              </a:rPr>
              <a:t>Don’t forget the units for mas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Diagonal Stripe 20"/>
          <p:cNvSpPr/>
          <p:nvPr/>
        </p:nvSpPr>
        <p:spPr>
          <a:xfrm rot="1102800">
            <a:off x="6368760" y="4317480"/>
            <a:ext cx="457200" cy="838440"/>
          </a:xfrm>
          <a:prstGeom prst="pie">
            <a:avLst/>
          </a:prstGeom>
          <a:gradFill rotWithShape="0">
            <a:gsLst>
              <a:gs pos="0">
                <a:srgbClr val="7d0000"/>
              </a:gs>
              <a:gs pos="100000">
                <a:srgbClr val="ff1a21"/>
              </a:gs>
            </a:gsLst>
            <a:lin ang="15096000"/>
          </a:gradFill>
          <a:ln w="9360">
            <a:solidFill>
              <a:srgbClr val="da1f28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Diagonal Stripe 19"/>
          <p:cNvSpPr/>
          <p:nvPr/>
        </p:nvSpPr>
        <p:spPr>
          <a:xfrm rot="1102800">
            <a:off x="4463640" y="4774680"/>
            <a:ext cx="457200" cy="838440"/>
          </a:xfrm>
          <a:prstGeom prst="pie">
            <a:avLst/>
          </a:prstGeom>
          <a:gradFill rotWithShape="0">
            <a:gsLst>
              <a:gs pos="0">
                <a:srgbClr val="7d0000"/>
              </a:gs>
              <a:gs pos="100000">
                <a:srgbClr val="ff1a21"/>
              </a:gs>
            </a:gsLst>
            <a:lin ang="15096000"/>
          </a:gradFill>
          <a:ln w="9360">
            <a:solidFill>
              <a:srgbClr val="da1f28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Diagonal Stripe 12"/>
          <p:cNvSpPr/>
          <p:nvPr/>
        </p:nvSpPr>
        <p:spPr>
          <a:xfrm rot="1102800">
            <a:off x="6400440" y="2514240"/>
            <a:ext cx="457200" cy="838080"/>
          </a:xfrm>
          <a:prstGeom prst="pie">
            <a:avLst/>
          </a:prstGeom>
          <a:gradFill rotWithShape="0">
            <a:gsLst>
              <a:gs pos="0">
                <a:srgbClr val="7d0000"/>
              </a:gs>
              <a:gs pos="100000">
                <a:srgbClr val="ff1a21"/>
              </a:gs>
            </a:gsLst>
            <a:lin ang="15096000"/>
          </a:gradFill>
          <a:ln w="9360">
            <a:solidFill>
              <a:srgbClr val="da1f28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Diagonal Stripe 10"/>
          <p:cNvSpPr/>
          <p:nvPr/>
        </p:nvSpPr>
        <p:spPr>
          <a:xfrm>
            <a:off x="4495680" y="2971800"/>
            <a:ext cx="762120" cy="685800"/>
          </a:xfrm>
          <a:prstGeom prst="pie">
            <a:avLst/>
          </a:prstGeom>
          <a:gradFill rotWithShape="0">
            <a:gsLst>
              <a:gs pos="0">
                <a:srgbClr val="7d0000"/>
              </a:gs>
              <a:gs pos="100000">
                <a:srgbClr val="ff1a21"/>
              </a:gs>
            </a:gsLst>
            <a:lin ang="16200000"/>
          </a:gradFill>
          <a:ln w="9360">
            <a:solidFill>
              <a:srgbClr val="da1f28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1"/>
          <p:cNvSpPr/>
          <p:nvPr/>
        </p:nvSpPr>
        <p:spPr>
          <a:xfrm>
            <a:off x="609480" y="304920"/>
            <a:ext cx="7772400" cy="170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Calculate the mass for the following objects using the formul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0a0"/>
                </a:solidFill>
                <a:latin typeface="augie"/>
              </a:rPr>
              <a:t>mass = Density x volu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Heart 2"/>
          <p:cNvSpPr/>
          <p:nvPr/>
        </p:nvSpPr>
        <p:spPr>
          <a:xfrm>
            <a:off x="990720" y="2438280"/>
            <a:ext cx="1523880" cy="1524240"/>
          </a:xfrm>
          <a:prstGeom prst="pie">
            <a:avLst/>
          </a:prstGeom>
          <a:solidFill>
            <a:srgbClr val="da1f28"/>
          </a:solidFill>
          <a:ln w="55080">
            <a:solidFill>
              <a:srgbClr val="a014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Cloud 3"/>
          <p:cNvSpPr/>
          <p:nvPr/>
        </p:nvSpPr>
        <p:spPr>
          <a:xfrm rot="403800">
            <a:off x="560520" y="4246560"/>
            <a:ext cx="2361960" cy="1905120"/>
          </a:xfrm>
          <a:prstGeom prst="pie">
            <a:avLst/>
          </a:prstGeom>
          <a:solidFill>
            <a:srgbClr val="ffffff"/>
          </a:solidFill>
          <a:ln w="5508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Box 5"/>
          <p:cNvSpPr/>
          <p:nvPr/>
        </p:nvSpPr>
        <p:spPr>
          <a:xfrm>
            <a:off x="3124080" y="2514600"/>
            <a:ext cx="571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Mass = 5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  g    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     100 c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entury Schoolbook"/>
              </a:rPr>
              <a:t>3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c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entury Schoolbook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7"/>
          <p:cNvSpPr/>
          <p:nvPr/>
        </p:nvSpPr>
        <p:spPr>
          <a:xfrm>
            <a:off x="5029200" y="624852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Arial"/>
              </a:rPr>
              <a:t>Don’t forget the units for mas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Multiply 8"/>
          <p:cNvSpPr/>
          <p:nvPr/>
        </p:nvSpPr>
        <p:spPr>
          <a:xfrm flipV="1">
            <a:off x="5334120" y="2590920"/>
            <a:ext cx="380880" cy="426960"/>
          </a:xfrm>
          <a:prstGeom prst="pi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Equal 9"/>
          <p:cNvSpPr/>
          <p:nvPr/>
        </p:nvSpPr>
        <p:spPr>
          <a:xfrm>
            <a:off x="7010280" y="2438280"/>
            <a:ext cx="457200" cy="685800"/>
          </a:xfrm>
          <a:prstGeom prst="pi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Rectangle 13" descr=""/>
          <p:cNvPicPr/>
          <p:nvPr/>
        </p:nvPicPr>
        <p:blipFill>
          <a:blip r:embed="rId1"/>
          <a:stretch/>
        </p:blipFill>
        <p:spPr>
          <a:xfrm>
            <a:off x="7424640" y="2309760"/>
            <a:ext cx="1901880" cy="817560"/>
          </a:xfrm>
          <a:prstGeom prst="rect">
            <a:avLst/>
          </a:prstGeom>
          <a:ln w="0">
            <a:noFill/>
          </a:ln>
        </p:spPr>
      </p:pic>
      <p:sp>
        <p:nvSpPr>
          <p:cNvPr id="300" name="TextBox 14"/>
          <p:cNvSpPr/>
          <p:nvPr/>
        </p:nvSpPr>
        <p:spPr>
          <a:xfrm>
            <a:off x="3048120" y="4343400"/>
            <a:ext cx="586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Mass = 2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  g    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     500 c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entury Schoolbook"/>
              </a:rPr>
              <a:t>3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c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entury Schoolbook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Multiply 15"/>
          <p:cNvSpPr/>
          <p:nvPr/>
        </p:nvSpPr>
        <p:spPr>
          <a:xfrm flipV="1">
            <a:off x="5257800" y="4494960"/>
            <a:ext cx="380880" cy="427320"/>
          </a:xfrm>
          <a:prstGeom prst="pi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Equal 16"/>
          <p:cNvSpPr/>
          <p:nvPr/>
        </p:nvSpPr>
        <p:spPr>
          <a:xfrm>
            <a:off x="6934320" y="4343400"/>
            <a:ext cx="457200" cy="685800"/>
          </a:xfrm>
          <a:prstGeom prst="pi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Rectangle 18" descr=""/>
          <p:cNvPicPr/>
          <p:nvPr/>
        </p:nvPicPr>
        <p:blipFill>
          <a:blip r:embed="rId2"/>
          <a:stretch/>
        </p:blipFill>
        <p:spPr>
          <a:xfrm>
            <a:off x="7236000" y="4303800"/>
            <a:ext cx="2054160" cy="73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1T00:06:52Z</dcterms:created>
  <dc:creator>Liz LaRosa</dc:creator>
  <dc:description/>
  <dc:language>en-US</dc:language>
  <cp:lastModifiedBy>Liz</cp:lastModifiedBy>
  <dcterms:modified xsi:type="dcterms:W3CDTF">2008-07-05T02:04:19Z</dcterms:modified>
  <cp:revision>85</cp:revision>
  <dc:subject/>
  <dc:title>Slide 1</dc:title>
</cp:coreProperties>
</file>